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F1C6-4991-4D82-86A0-E548F05566B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C6EE-DC8A-4B37-BF66-1A7C4E8E27E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C077-D559-47A7-882E-0B2FF0FCFF1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F890-80AE-4D3B-B077-53032FBE2D6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1195-DF37-4288-A8C8-1B99CBF440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2134-20FF-4B06-B844-9877DF73AE6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49ED-951B-4F43-A233-F0D8C9B6B56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B563-EA75-46CC-B411-BE26BBE952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8B02-733D-49B9-8522-A5549F567DF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8A56-3E90-4DAC-A10F-FB5B9A951A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6F74-D159-44BB-8558-5256784431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C113-8331-444D-B3F5-151BA84699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10EC-57A6-4498-A2C9-BB83933705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F725-5A65-45A4-A3F2-847173D8BBB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A596-F959-429D-831C-9EF9665021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825B-54BC-4101-9C0A-04FC614256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787D-47A1-457F-9B13-C1D1B27545A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F7D3-BC2C-4B23-97BD-CBDCA3E88E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BDE0-A444-408F-8B2C-B4F135911F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D81B-9A1A-4AB8-AD00-7A1974160E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2D0F-2CCC-41F7-AA24-61818ECB614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E4D3-938E-4D61-A425-6AD816D7FF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543D-C033-4A05-A70C-7B33ADA77F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24E5-EAE8-4FAB-A562-8BB9656F2AE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3F57-3C2E-4C70-BC3E-821E485BE5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28AD-8B57-4CD4-A113-60800BDAC4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24F6-9FCB-45B0-9712-472C089A07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6335-03F1-440A-AE49-68F7A2E1B3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1C07-B7C2-4BE9-A8AD-C5C2FEC440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C13B-1833-46B4-8408-F47F820E9BC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AFA9-BD5C-4720-B256-1DEBEB3BBA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FE89-1F41-4A4B-BDAE-66F34CF0BC7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2537-D508-45AA-93B9-4756E8D825F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ob Seekers, Students, New Canadians, Emplo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SSISTED does not mean there is no staff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information and resour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52A2-48E9-48C4-8CD5-4AAC9ECF009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1B9A-C208-4FC9-9C94-EBB05B78F62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BC30F-658B-4A35-BA67-8160065CF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A6392-2041-4874-9A9B-8B909807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44863-6AD9-4587-9648-133AFF85E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C5320-56D2-48D1-8D3B-246BB529F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6F73B-D802-45E9-9E00-D86C25DE3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A4B71-ED19-40D5-BAB9-64BF26180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3B3EC-9DA8-422D-A810-B945EDDA0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16F0E-59F3-47FE-BE2A-D7FAF1B4E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56CD2-613B-4939-8C4B-D9431D6E3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A317B-ABDF-47FA-A775-2399FAEED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664B3-60A2-4612-A597-7D89FFA9F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5C54-F45A-4A9E-9B19-3C76D2E8E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B20C8-2042-4A82-AAE3-16346A15F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0870E-998D-406A-8CC7-A537C7AF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3565B-B5CA-491E-A18E-A8F6D0C09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0137A-C0CD-40DE-A9E7-1190A6DDB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D60A9-B683-424D-BE11-76153D1DA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C5375F-989F-40C4-A4A5-F1D1ED99B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94A441-838A-498D-BE62-2D8BB690D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5AE589-F00C-4A26-90AF-8EEEC7646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4B7FB6-44E3-4648-B5FB-6488C157C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A8D2F8-C310-46EE-8E7B-F0F7EE8E0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EC4A-3B02-4B1C-9A18-275D39425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821720-74C6-49A7-B579-46F06B216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C89E8E-D916-4408-A4B2-3E7831BA5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41D9D8-7A86-4DD8-89E4-14451FA2A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07FA2C-63E6-4D6C-AF6B-D6555F8A4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38B9FC-3B3F-4817-AC3B-0F3A86616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3EFA968-8534-4D59-A4D9-8E2866A6CD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A551B1E-0DF7-4ED4-B3ED-18FF10BAF0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19B49A-94B8-464D-ADFE-AAA4966895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39A77B-69D0-4DEB-B480-D385BDF22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E4C460-B125-4F7C-BB79-73F330ADE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E09EF-B342-43EA-B39C-28E56FE7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F89C00-5F58-48E3-A41B-A1A6F2B38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E02327-24D2-498A-964A-C14299D47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FD31F4-B687-4758-9E45-7661F92B3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1F6E6C-C05F-41A7-9056-BFBFDC37C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453F65-91A9-4DB1-BE1B-6B3F52E1A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53ADA3-7AFC-4FF2-8FC8-91057EC6D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CACB95-EAE9-42BA-88A8-20926827A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9E76E1B-47EE-4628-ACDD-39C4F1E026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2814E6-0BD5-43F4-9198-7D8EC7291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210766-A5B4-4ED6-B6EC-8D5B1FED1D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783B4-EB31-4AF9-8EA1-A895D876C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C29517-6BE0-4CC2-B395-722A33320D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FF3CF1-9F97-4017-9F01-2EFBBF425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00ED70-2912-4018-A8A0-2E61AD953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DDB269-0A90-4B58-99A4-8358D70C2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257B2C-CF59-44D9-9370-70F4E7BD4D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0DA12D-CCA1-430E-B045-66A6212A2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5BE3F0-AF47-4FB7-8B6F-07703316A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1AAD15-8E74-41AB-86BC-4E7AA1D9B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236C1B-8398-4CA2-8C8B-0495280FB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63061E-8FBE-412D-934E-6A021B3434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04BC7-80C1-4665-9AA1-61FA60D60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58F1FB-D5CA-4115-8F6C-D8DFE5CC8C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F57A4A-AEC9-4F57-973A-C06808048B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4F278-C04F-4B01-9CFD-8966C9C260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02FCF-25DF-4354-96EC-D4E3AAF70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919ED-AE7F-4D58-A9C6-C8EB847C19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58AF10-C71C-4A43-88B4-EA16B68E7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D34250-8528-4BB4-ABB7-B46D00D6BA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784F6-8334-48EB-81BA-BE1938811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A1E7A-2905-4197-8224-7A227CCFD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29E89-90E3-491D-8D19-1D49DD296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B9B2-2184-4053-97BC-ACB8A23F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51BC57-4925-47EE-8CC1-F8BF86F0C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8C833E-C4E7-4BBF-A618-8C87C91B26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915F0C-5ED8-4B19-8CB0-E7B81EEB69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7D8470E-B995-451B-B4CC-8E41A666D6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630AFE-0762-48CB-B8BD-200CF55378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B38FBF5-EB5F-4572-BA42-3C1F9DA41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285794-5961-498D-AA2C-61CC9295E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2EB59A8-D990-4BEC-803C-F8E07D4556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6DBE8FC-21D0-44C6-86C8-824FF63D1F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DBB2BA-8A88-46BE-8908-DF87B66099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C1F8-C1A8-4D13-935D-82C1B2AED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077EDF-62D4-419D-8FA0-F8E3CDC67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EB210E-C782-445B-B650-4EBA7FCC88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AF51186-C86F-46F1-994F-6BFB725C6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EACA8F2-CE8A-429F-9781-CB420BFD73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8B0A69E-EBB8-4EB3-A4C3-19BEC113A7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04B8E1-754F-4E3E-BB12-636DA9A0F7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63C69-8BCD-4CBA-99EC-D83E05246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F0B62-A5DA-4F13-A0D6-3A8A78641B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5EC960-2387-4EBB-86FB-A565B49B0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75DDFC-D281-4F0A-A6F4-A59F3E83D4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6D9F-A866-4428-84A1-F7BFBB6DB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75076E-FF55-4E5B-9C89-54080CEE13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CC343-CD22-497C-BED9-88133BD71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2FEF9-5373-4634-9ED1-71B7F2FB7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3EA0C-77BC-4597-B896-5336436581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D62063-E672-4261-B50A-9D47BCD1A1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996983-433A-465D-AAB0-F1B6A5BC77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EC28D1-A06C-40C6-A163-60163B108A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C6B5-F7D4-4C4D-8194-F1E8A1459941}"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2110-5517-45E4-AB64-C317551A89E6}" type="slidenum">
              <a:rPr b="1" lang="en-C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43A3-9AA4-4D7A-BFC5-CC3FA8A0C0F7}" type="slidenum">
              <a:rPr b="1"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1132-06E1-4711-8A90-94415A35D092}"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791B-6566-4078-8658-BD0A3E31176C}"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2040-C688-4AD3-8390-F6AA4DA7C1AE}" type="slidenum">
              <a:rPr b="1" lang="en-C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1D8D-13A1-42AD-9ABE-1560C6977CD6}" type="slidenum">
              <a:rPr b="1" lang="en-C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B2B9-BECB-4476-874B-D46EF22BAA84}"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40000" y="249228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bddc3"/>
                </a:solidFill>
                <a:latin typeface="Tw Cen MT"/>
              </a:rPr>
              <a:t>EMPLOYMENT ONTARIO</a:t>
            </a:r>
            <a:br>
              <a:rPr sz="4000"/>
            </a:br>
            <a:r>
              <a:rPr b="1" lang="en-CA" sz="4000" spc="-1" strike="noStrike">
                <a:solidFill>
                  <a:srgbClr val="ebddc3"/>
                </a:solidFill>
                <a:latin typeface="Tw Cen MT"/>
              </a:rPr>
              <a:t>PROGRAMS AND SERVICES</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ff"/>
                </a:solidFill>
                <a:latin typeface="Tw Cen MT"/>
              </a:rPr>
              <a:t>May 13, 2011</a:t>
            </a:r>
            <a:endParaRPr b="0" lang="en-US" sz="2600" spc="-1" strike="noStrike">
              <a:solidFill>
                <a:srgbClr val="ffffff"/>
              </a:solidFill>
              <a:latin typeface="Tw Cen MT"/>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ral to Community Services </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ferrals may be made at any point of client contac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ake or one-on-one Employment Consultant will refer based on individual assessmen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x: Language assessment, ESL, credential assessment, housing, financial planning, counseling services, etc.</a:t>
            </a:r>
            <a:endParaRPr b="0" lang="en-US" sz="3200" spc="-1" strike="noStrike">
              <a:solidFill>
                <a:srgbClr val="000000"/>
              </a:solidFill>
              <a:latin typeface="Tw Cen MT"/>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a:t>
            </a:r>
            <a:endParaRPr b="0" lang="en-US" sz="4400" spc="-1" strike="noStrike">
              <a:solidFill>
                <a:srgbClr val="775f55"/>
              </a:solidFill>
              <a:latin typeface="Tw Cen MT"/>
            </a:endParaRPr>
          </a:p>
        </p:txBody>
      </p:sp>
      <p:sp>
        <p:nvSpPr>
          <p:cNvPr id="378" name=""/>
          <p:cNvSpPr txBox="1"/>
          <p:nvPr/>
        </p:nvSpPr>
        <p:spPr>
          <a:xfrm>
            <a:off x="612720" y="1600200"/>
            <a:ext cx="835200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Eligibility criteria:</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employ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t participating in full-time training or education</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deremployed – working less than an average of 20 hours per week</a:t>
            </a:r>
            <a:endParaRPr b="0" lang="en-US" sz="3200" spc="-1" strike="noStrike">
              <a:solidFill>
                <a:srgbClr val="000000"/>
              </a:solidFill>
              <a:latin typeface="Tw Cen MT"/>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ingness to begin employ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story of poor work retention; ineffective independent job search</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bstantial time out of school, work or training</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ck of relevant, credible or Canadian work experience</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ucation/credentials from outside of Canada</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nguage skill level is a barrier to employment</a:t>
            </a:r>
            <a:endParaRPr b="0" lang="en-US" sz="2900" spc="-1" strike="noStrike">
              <a:solidFill>
                <a:srgbClr val="000000"/>
              </a:solidFill>
              <a:latin typeface="Tw Cen MT"/>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 cont’d…</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w level of education attai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abilit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urce of inco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lf-identified as Aborigin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bour market change</a:t>
            </a:r>
            <a:endParaRPr b="0" lang="en-US" sz="2900" spc="-1" strike="noStrike">
              <a:solidFill>
                <a:srgbClr val="000000"/>
              </a:solidFill>
              <a:latin typeface="Tw Cen MT"/>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Assisted Services / Case Management</a:t>
            </a:r>
            <a:endParaRPr b="0" lang="en-US" sz="40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ment Service Plan is ope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ividualized assistance in career clarification and goal sett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kills and interest assess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view and employment prepa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listic and accurate assessment of qualifications compared to job requiremen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 cont’d…</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the client works with the service provider, a more in-depth analysis is undertake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service needs may be identified and provided or coordinated with other service providers (referral)</a:t>
            </a:r>
            <a:endParaRPr b="0" lang="en-US" sz="2900" spc="-1" strike="noStrike">
              <a:solidFill>
                <a:srgbClr val="000000"/>
              </a:solidFill>
              <a:latin typeface="Tw Cen MT"/>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dividualized support for conducting a successful job search</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ncompasses clarification of interests, abilities, skills, short &amp; long-term goal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rientation to workplace: rules, employer expectations, Canadian workplace culture</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ights and responsibilities of employe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eparation of tools – resume, applications, strategi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nformation about access to language, credential assessment</a:t>
            </a:r>
            <a:endParaRPr b="0" lang="en-US" sz="2700" spc="-1" strike="noStrike">
              <a:solidFill>
                <a:srgbClr val="000000"/>
              </a:solidFill>
              <a:latin typeface="Tw Cen MT"/>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Provides matching and placement services to clients who are unlikely to succeed in conducting their own job search, even with support, because of barriers to employment</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to match client skills and interests with work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in facilitation of work opportunities and negotiation of the employment relationship on their behalf</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iential or on-the-job training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support – identify and resolve issu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ancial supports to help remove barriers</a:t>
            </a:r>
            <a:endParaRPr b="0" lang="en-US" sz="2900" spc="-1" strike="noStrike">
              <a:solidFill>
                <a:srgbClr val="000000"/>
              </a:solidFill>
              <a:latin typeface="Tw Cen MT"/>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ob development – proactive outreach to employers to identify opportuniti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 support in identifying skills required and capabilities need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nsitivity/diversity training, workplace accommod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ing employer skill needs and participant capabilities and interests</a:t>
            </a:r>
            <a:endParaRPr b="0" lang="en-US" sz="2900" spc="-1" strike="noStrike">
              <a:solidFill>
                <a:srgbClr val="000000"/>
              </a:solidFill>
              <a:latin typeface="Tw Cen MT"/>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jectives</a:t>
            </a:r>
            <a:endParaRPr b="0" lang="en-US" sz="4400" spc="-1" strike="noStrike">
              <a:solidFill>
                <a:srgbClr val="775f55"/>
              </a:solidFill>
              <a:latin typeface="Tw Cen MT"/>
            </a:endParaRPr>
          </a:p>
        </p:txBody>
      </p:sp>
      <p:sp>
        <p:nvSpPr>
          <p:cNvPr id="360"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vide an overview of the components of the Employment Ontari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y how your clients can access services (referr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a closer look at each component of E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swer any questions that you may hav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opportunities with or without incentives, volunteer placement, job trial and on-the-job training opportuniti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training plan and agreement, includes negotiation of financial incentiv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placement and agreement to support succes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 participants with mentors and coaches to provide support during and after placement</a:t>
            </a:r>
            <a:endParaRPr b="0" lang="en-US" sz="2900" spc="-1" strike="noStrike">
              <a:solidFill>
                <a:srgbClr val="000000"/>
              </a:solidFill>
              <a:latin typeface="Tw Cen MT"/>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mployment and Training Supports</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vailable on a temporary basis to address financial barriers to participation in Employment Services for assisted clien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cial equipment, supplies (e.g. safety boo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nsporta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ork clothing/grooming needs to achieve credibility</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ertification charg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determined based on need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ents expect that their experience in the Employment Service will lead them on a path to sustained employ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amp; follow-u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ay be a need for additional coaching / mentoring to maintain employment or complete train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support plan with the client and mentor</a:t>
            </a:r>
            <a:endParaRPr b="0" lang="en-US" sz="2900" spc="-1" strike="noStrike">
              <a:solidFill>
                <a:srgbClr val="000000"/>
              </a:solidFill>
              <a:latin typeface="Tw Cen MT"/>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ing participants with mentors and coaches to provide support during and after job place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the mentor/coach relationship with clients and its impact on workplace succes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ke adjustments as required</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up occurs continuously</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placement – positive 3 month follow-up – goal of sustainable employment reached - exit </a:t>
            </a:r>
            <a:endParaRPr b="0" lang="en-US" sz="2900" spc="-1" strike="noStrike">
              <a:solidFill>
                <a:srgbClr val="000000"/>
              </a:solidFill>
              <a:latin typeface="Tw Cen MT"/>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0000"/>
          </a:bodyPr>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laid-off workers with:</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skills training to help them find jobs in high-demand occupations in Ontario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inancial suppor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up to $28,000 for:</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ui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other instruction costs such as manuals or work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ransporta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 basic living allowance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is a</a:t>
            </a:r>
            <a:r>
              <a:rPr b="0" lang="en-CA" sz="1800" spc="-1" strike="noStrike">
                <a:solidFill>
                  <a:srgbClr val="000000"/>
                </a:solidFill>
                <a:latin typeface="Tw Cen MT"/>
              </a:rPr>
              <a:t> </a:t>
            </a:r>
            <a:r>
              <a:rPr b="1" lang="en-CA" sz="1800" spc="-1" strike="noStrike">
                <a:solidFill>
                  <a:srgbClr val="000000"/>
                </a:solidFill>
                <a:latin typeface="Tw Cen MT"/>
              </a:rPr>
              <a:t>cost-sharing grant</a:t>
            </a:r>
            <a:r>
              <a:rPr b="0" lang="en-CA" sz="1800" spc="-1" strike="noStrike">
                <a:solidFill>
                  <a:srgbClr val="000000"/>
                </a:solidFill>
                <a:latin typeface="Tw Cen MT"/>
              </a:rPr>
              <a:t> provided on the basis of need, so you may be asked to contribute what you can to your training or education.</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dditional support may be available to accommodate the needs of people with disabilities, dependent care, costs of living away from home and academic upgrading.</a:t>
            </a:r>
            <a:endParaRPr b="0" lang="en-US" sz="1800" spc="-1" strike="noStrike">
              <a:solidFill>
                <a:srgbClr val="000000"/>
              </a:solidFill>
              <a:latin typeface="Tw Cen MT"/>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6" name=""/>
          <p:cNvSpPr txBox="1"/>
          <p:nvPr/>
        </p:nvSpPr>
        <p:spPr>
          <a:xfrm>
            <a:off x="684000" y="1267920"/>
            <a:ext cx="7869240" cy="59770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Individuals may be eligible for Second Career if they ar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laid off or have been laid off since January 2005.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unemployed or working an interim job.</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choosing to retrain for a career that is in dema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Second Career provides help to laid-off workers in need who will benefit most from training to find work. Several factors are considered when figuring out who will receive funding.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ctive job search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ength of unemploymen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ducation background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Work history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abour market prospect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raining reques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xperience and occupational skills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w Cen MT"/>
              </a:rPr>
              <a:t>Apprenticeship Programs</a:t>
            </a:r>
            <a:endParaRPr b="0" lang="en-US" sz="4400" spc="-1" strike="noStrike">
              <a:solidFill>
                <a:srgbClr val="775f55"/>
              </a:solidFill>
              <a:latin typeface="Tw Cen MT"/>
            </a:endParaRPr>
          </a:p>
        </p:txBody>
      </p:sp>
      <p:sp>
        <p:nvSpPr>
          <p:cNvPr id="408" name=""/>
          <p:cNvSpPr txBox="1"/>
          <p:nvPr/>
        </p:nvSpPr>
        <p:spPr>
          <a:xfrm>
            <a:off x="468360" y="1483920"/>
            <a:ext cx="8229600" cy="53737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is a combination of on-the-job and in-school training for employment in a skilled trade. On average, 90 per cent of training takes place in the workplace with instruction by certified journeypersons. The remainder involves classroom instruction delivered at a college of applied arts and technology</a:t>
            </a:r>
            <a:r>
              <a:rPr b="1" lang="en-CA" sz="1800" spc="-1" strike="noStrike">
                <a:solidFill>
                  <a:srgbClr val="000000"/>
                </a:solidFill>
                <a:latin typeface="Tw Cen MT"/>
              </a:rPr>
              <a:t> </a:t>
            </a:r>
            <a:r>
              <a:rPr b="0" lang="en-CA" sz="1800" spc="-1" strike="noStrike">
                <a:solidFill>
                  <a:srgbClr val="000000"/>
                </a:solidFill>
                <a:latin typeface="Tw Cen MT"/>
              </a:rPr>
              <a:t>or other approved training delivery agent.</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re are more than 150 apprenticeship trades in four sectors: construction, industrial/manufacturing, motive power and service.</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In Ontario, there are more than 120,000 apprentices learning a trade, which usually takes two to five years to complete both in-school training and on-the-job training to become a certified journeyperson.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th EI and non-EI apprentices may be eligible for financial supports for in-school training and completion incentives from government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programs are offered by different organizations, such as colleges and approved apprenticeship training deliverers. Individuals can find out local program offerings through Employment Ontario Hotline: 1-800-387-5656.</a:t>
            </a:r>
            <a:endParaRPr b="0" lang="en-US" sz="1800" spc="-1" strike="noStrike">
              <a:solidFill>
                <a:srgbClr val="000000"/>
              </a:solidFill>
              <a:latin typeface="Tw Cen MT"/>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775f55"/>
                </a:solidFill>
                <a:latin typeface="Tw Cen MT"/>
              </a:rPr>
              <a:t>Apprenticeship Scholarship (AS)</a:t>
            </a:r>
            <a:endParaRPr b="0" lang="en-US" sz="40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terest in the skilled trades</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Must be committed to meeting the necessary academic requirements for the chosen program within one yea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when registered for upgrading</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upon confirmation of successful completio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Apprenticeship Employer Signing Bonus (AESB)</a:t>
            </a:r>
            <a:endParaRPr b="0" lang="en-US" sz="36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Employer must commit to a relevant apprenticeship training pla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itial payment of $1000 when the training agreement is signed</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Final payment of $1000 six months from the signing date if apprentice is still working and training with the same employe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Pre-Apprenticeship Training Program</a:t>
            </a:r>
            <a:endParaRPr b="0" lang="en-US" sz="3600" spc="-1" strike="noStrike">
              <a:solidFill>
                <a:srgbClr val="775f55"/>
              </a:solidFill>
              <a:latin typeface="Tw Cen MT"/>
            </a:endParaRPr>
          </a:p>
        </p:txBody>
      </p:sp>
      <p:sp>
        <p:nvSpPr>
          <p:cNvPr id="414" name=""/>
          <p:cNvSpPr txBox="1"/>
          <p:nvPr/>
        </p:nvSpPr>
        <p:spPr>
          <a:xfrm>
            <a:off x="612720" y="1599840"/>
            <a:ext cx="8153280" cy="525780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 Pre-Apprenticeship Training Program helps potential entrants to the apprenticeship system develop their job skills and trade readiness so that they will be prepared to find work as apprentices.</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Programs are up to 40 weeks in duration and include the Level 1 apprenticeship in-school training, relevant safety training and a minimum 8-week work placement. Programs may also include trade readiness, employment preparation and academic upgrading.</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re is no cost to participate in a pre-apprenticeship program, and costs for text books, safety equipment and tools are included. </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Pre-Apprenticeship Training Program is open to a wide range of clients including:</a:t>
            </a:r>
            <a:endParaRPr b="0" lang="en-US" sz="18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High School graduates /Early school leaver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Unemployed/underemployed youth and adult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EI/Non-EI Eligible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Aboriginal people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Newcomers to Canada </a:t>
            </a:r>
            <a:endParaRPr b="0" lang="en-US" sz="1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Note: Certain eligibility criteria may apply to specific programs</a:t>
            </a:r>
            <a:r>
              <a:rPr b="0" lang="en-CA" sz="2000" spc="-1" strike="noStrike">
                <a:solidFill>
                  <a:srgbClr val="000000"/>
                </a:solidFill>
                <a:latin typeface="Tw Cen MT"/>
              </a:rPr>
              <a:t>.</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w Cen MT"/>
              </a:rPr>
              <a:t>EMPLOYMENT ONTARIO</a:t>
            </a:r>
            <a:endParaRPr b="0" lang="en-US" sz="3600" spc="-1" strike="noStrike">
              <a:solidFill>
                <a:srgbClr val="775f55"/>
              </a:solidFill>
              <a:latin typeface="Tw Cen MT"/>
            </a:endParaRPr>
          </a:p>
        </p:txBody>
      </p:sp>
      <p:sp>
        <p:nvSpPr>
          <p:cNvPr id="362" name=""/>
          <p:cNvSpPr txBox="1"/>
          <p:nvPr/>
        </p:nvSpPr>
        <p:spPr>
          <a:xfrm>
            <a:off x="611280" y="1773000"/>
            <a:ext cx="8013600" cy="40208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helps Ontarians find work </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provide personalized advice and services to help people assess their skills and experience, find work and start on the path to skills training</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Get the skills to succeed:</a:t>
            </a:r>
            <a:r>
              <a:rPr b="0" lang="en-CA" sz="2400" spc="-1" strike="noStrike">
                <a:solidFill>
                  <a:srgbClr val="000000"/>
                </a:solidFill>
                <a:latin typeface="Tw Cen MT"/>
              </a:rPr>
              <a:t>  Talk to a professional counsellor and get the help you need to plan your career, get training, and find a job through the Employment Services progra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Find jobs:</a:t>
            </a:r>
            <a:r>
              <a:rPr b="0" lang="en-CA" sz="2400" spc="-1" strike="noStrike">
                <a:solidFill>
                  <a:srgbClr val="000000"/>
                </a:solidFill>
                <a:latin typeface="Tw Cen MT"/>
              </a:rPr>
              <a:t> Where and how to seek employment opportunities</a:t>
            </a:r>
            <a:endParaRPr b="0" lang="en-US" sz="24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115920"/>
            <a:ext cx="8229600" cy="100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775f55"/>
                </a:solidFill>
                <a:latin typeface="Tw Cen MT"/>
              </a:rPr>
              <a:t>LITERACY AND BASIC SKILLS/ </a:t>
            </a:r>
            <a:br>
              <a:rPr sz="2400"/>
            </a:br>
            <a:r>
              <a:rPr b="1" lang="en-CA" sz="2400" spc="-1" strike="noStrike">
                <a:solidFill>
                  <a:srgbClr val="775f55"/>
                </a:solidFill>
                <a:latin typeface="Tw Cen MT"/>
              </a:rPr>
              <a:t>ACADEMIC UPGRADING</a:t>
            </a:r>
            <a:endParaRPr b="0" lang="en-US" sz="2400" spc="-1" strike="noStrike">
              <a:solidFill>
                <a:srgbClr val="775f55"/>
              </a:solidFill>
              <a:latin typeface="Tw Cen MT"/>
            </a:endParaRPr>
          </a:p>
        </p:txBody>
      </p:sp>
      <p:sp>
        <p:nvSpPr>
          <p:cNvPr id="416" name=""/>
          <p:cNvSpPr txBox="1"/>
          <p:nvPr/>
        </p:nvSpPr>
        <p:spPr>
          <a:xfrm>
            <a:off x="250920" y="1125360"/>
            <a:ext cx="8642160" cy="5732640"/>
          </a:xfrm>
          <a:prstGeom prst="rect">
            <a:avLst/>
          </a:prstGeom>
          <a:noFill/>
          <a:ln w="0">
            <a:noFill/>
          </a:ln>
        </p:spPr>
        <p:txBody>
          <a:bodyPr anchor="t">
            <a:normAutofit fontScale="94000"/>
          </a:bodyPr>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w Cen MT"/>
              </a:rPr>
              <a:t>	</a:t>
            </a: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Ontario government’s Literacy and Basic Skills (LBS) Program provides literacy, numeracy, and essential skills services. </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at Services Are Availabl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which includes in academic upgrading, are provided at No Cost to learners to improve Reading, Writing, Numeracy and Essential Skills, below the Grade 12 level. These services are offered through Local School Boards, Community based agencies, and College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also provides Academic Upgrading services to help learners get the skills they need for entry into Post-Secondary Education and Apprenticeship Training.</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Employment Ontario can help you set upgrading goals and develop a training pla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lexible training options that fit your busy schedule are available through one-on-one tutoring, small-group instruction, or classroom instructio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or those who want to learn how to use a computer, technology skills can be incorporated in the training plan.</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is available to anyone who is out of school and communicates in English or French.  </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support programming for Anglophone, Francophone, Deaf, and Aboriginal learner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775f55"/>
                </a:solidFill>
                <a:latin typeface="Tw Cen MT"/>
              </a:rPr>
              <a:t>The Targeted Initiative for Older Workers</a:t>
            </a:r>
            <a:br>
              <a:rPr sz="2800"/>
            </a:br>
            <a:r>
              <a:rPr b="1" lang="en-CA" sz="2800" spc="-1" strike="noStrike">
                <a:solidFill>
                  <a:srgbClr val="775f55"/>
                </a:solidFill>
                <a:latin typeface="Tw Cen MT"/>
              </a:rPr>
              <a:t>(TIOW)</a:t>
            </a:r>
            <a:endParaRPr b="0" lang="en-US" sz="28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at is TIOW?</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Targeted Initiative for Older Workers (TIOW) is a federal-provincial-territorial cost-shared employment program created to provide a range of employment activities for older workers who live in vulnerable communities and who have lost their jobs. These activities include skills upgrading and work experience in new jobs to help them stay in the work force. </a:t>
            </a:r>
            <a:br>
              <a:rPr sz="1600"/>
            </a:br>
            <a:r>
              <a:rPr b="0" lang="en-CA" sz="1600" spc="-1" strike="noStrike">
                <a:solidFill>
                  <a:srgbClr val="000000"/>
                </a:solidFill>
                <a:latin typeface="Tw Cen MT"/>
              </a:rPr>
              <a:t>The TIOW will target communities experiencing ongoing high unemployment and/or a high reliance on a single employer or industry (i.e. 20 per cent of the labour force) affected by downsizing or a closure or closures. </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Projects will include activities such as skills assessment, counselling, skills upgrading and work experience for new jobs. Contribution agreements will establish the roles and responsibilities and eligibility parameters for the program</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o does this program apply  to:</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program will apply to older workers aged 55 to 64 who have lost their jobs;</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are legally entitled to work in Canada;</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ack skills needed for successful integration into new employment; and</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ive in an eligible community. </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ther Employment Ontario Services in Your Community</a:t>
            </a:r>
            <a:endParaRPr b="0" lang="en-US" sz="36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29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Job Creation Partnerships:  </a:t>
            </a:r>
            <a:r>
              <a:rPr b="0" lang="en-CA" sz="1800" spc="-1" strike="noStrike">
                <a:solidFill>
                  <a:srgbClr val="000000"/>
                </a:solidFill>
                <a:latin typeface="Tw Cen MT"/>
              </a:rPr>
              <a:t>is an employment program that provides work experience to unemployed job seekers within projects that benefit the community or local economy.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Self-Employment Benefit:  </a:t>
            </a:r>
            <a:r>
              <a:rPr b="0" lang="en-CA" sz="1800" spc="-1" strike="noStrike">
                <a:solidFill>
                  <a:srgbClr val="000000"/>
                </a:solidFill>
                <a:latin typeface="Tw Cen MT"/>
              </a:rPr>
              <a:t>This provides unemployed people who are or have recently been eligible for Employment Insurance with income and entrepreneurial support while they develop and start their busines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2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Questions?</a:t>
            </a:r>
            <a:endParaRPr b="0" lang="en-US" sz="5400" spc="-1" strike="noStrike">
              <a:solidFill>
                <a:srgbClr val="775f55"/>
              </a:solidFill>
              <a:latin typeface="Tw Cen MT"/>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95280" y="2743200"/>
            <a:ext cx="809928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ww.edu.gov.on.ca/eng/tcu/employmentontario/</a:t>
            </a:r>
            <a:endParaRPr b="0" lang="en-US" sz="2800" spc="-1" strike="noStrike">
              <a:solidFill>
                <a:srgbClr val="000000"/>
              </a:solidFill>
              <a:latin typeface="Tw Cen MT"/>
            </a:endParaRPr>
          </a:p>
        </p:txBody>
      </p:sp>
      <p:sp>
        <p:nvSpPr>
          <p:cNvPr id="42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Thank You!</a:t>
            </a:r>
            <a:endParaRPr b="0" lang="en-US" sz="5400" spc="-1" strike="noStrike">
              <a:solidFill>
                <a:srgbClr val="775f55"/>
              </a:solidFill>
              <a:latin typeface="Tw Cen MT"/>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775f55"/>
                </a:solidFill>
                <a:latin typeface="Tw Cen MT"/>
              </a:rPr>
              <a:t>Employment Services</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of community service providers deliver employment services to individuals who require assistance in obtaining and sustaining employment.  All services are provided in a single point of service within all communities in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is comprised of 174 Employment Service providers at 434 sites throughout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Clients are able to access job search, placement and incentives, job retention instruction, information and referral services and service planning and co-ordination from a single point of service.</a:t>
            </a:r>
            <a:endParaRPr b="0" lang="en-US" sz="2400" spc="-1" strike="noStrike">
              <a:solidFill>
                <a:srgbClr val="000000"/>
              </a:solidFill>
              <a:latin typeface="Tw Cen MT"/>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ponents of the Employment Service</a:t>
            </a:r>
            <a:endParaRPr b="0" lang="en-US" sz="4000" spc="-1" strike="noStrike">
              <a:solidFill>
                <a:srgbClr val="775f55"/>
              </a:solidFill>
              <a:latin typeface="Tw Cen MT"/>
            </a:endParaRPr>
          </a:p>
        </p:txBody>
      </p:sp>
      <p:pic>
        <p:nvPicPr>
          <p:cNvPr id="366" name="Snagit_PPT66" descr="PPT66.png"/>
          <p:cNvPicPr/>
          <p:nvPr/>
        </p:nvPicPr>
        <p:blipFill>
          <a:blip r:embed="rId1"/>
          <a:srcRect l="10835" t="23337" r="13632" b="14000"/>
          <a:stretch/>
        </p:blipFill>
        <p:spPr>
          <a:xfrm>
            <a:off x="380880" y="1981080"/>
            <a:ext cx="8523360" cy="441972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lient Service Planning &amp; Coordination</a:t>
            </a:r>
            <a:endParaRPr b="0" lang="en-US" sz="40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O service providers must determine an individual’s primary service ne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Resource &amp; Information compon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ferral to other services (either before or concurrent with Employment Service)</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assisted Employment Service components</a:t>
            </a:r>
            <a:endParaRPr b="0" lang="en-US" sz="2800" spc="-1" strike="noStrike">
              <a:solidFill>
                <a:srgbClr val="000000"/>
              </a:solidFill>
              <a:latin typeface="Tw Cen MT"/>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O Providers will Consider…</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Individuals’ employability dimensions</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personal skills, work history, education</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Suitability Indicators (further information)</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he demands of the potential employer</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Opportunities within the labour market</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trends in the region</a:t>
            </a:r>
            <a:endParaRPr b="0" lang="en-US" sz="32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Training opportunities</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 &amp; Information</a:t>
            </a:r>
            <a:endParaRPr b="0" lang="en-US" sz="4400" spc="-1" strike="noStrike">
              <a:solidFill>
                <a:srgbClr val="775f55"/>
              </a:solidFill>
              <a:latin typeface="Tw Cen MT"/>
            </a:endParaRPr>
          </a:p>
        </p:txBody>
      </p:sp>
      <p:sp>
        <p:nvSpPr>
          <p:cNvPr id="372" name=""/>
          <p:cNvSpPr txBox="1"/>
          <p:nvPr/>
        </p:nvSpPr>
        <p:spPr>
          <a:xfrm>
            <a:off x="612360" y="1599840"/>
            <a:ext cx="8783640" cy="525780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pen access service for the community</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o eligibility or access criteria (intake)</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cludes:</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abour market information</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sources to support independent (unassisted) job search</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reer clarification and planning</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formation on local training opportunities, local employment opportunities, community service support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des a means for employers to recruit employee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s / Info Sessions</a:t>
            </a:r>
            <a:endParaRPr b="0" lang="en-US" sz="4400" spc="-1" strike="noStrike">
              <a:solidFill>
                <a:srgbClr val="775f55"/>
              </a:solidFill>
              <a:latin typeface="Tw Cen MT"/>
            </a:endParaRPr>
          </a:p>
        </p:txBody>
      </p:sp>
      <p:sp>
        <p:nvSpPr>
          <p:cNvPr id="374"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rientation to Employment Service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sume &amp; Cover Letter</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 Search</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view Skill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Information / Career Exploration</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09:21Z</dcterms:created>
  <dc:creator>shannon.crawford</dc:creator>
  <dc:description/>
  <dc:language>en-US</dc:language>
  <cp:lastModifiedBy>aholmes</cp:lastModifiedBy>
  <dcterms:modified xsi:type="dcterms:W3CDTF">2011-07-08T18:27:50Z</dcterms:modified>
  <cp:revision>54</cp:revision>
  <dc:subject/>
  <dc:title>Employment  Programs and Services  Service Canada &amp; Province of Ontario</dc:title>
</cp:coreProperties>
</file>